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EC9-2C2A-489E-A1EF-E4C4154E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E441-B943-4B78-8F5B-09989BE0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868-B8B5-4003-A44E-8D4A13F5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AABF-0300-4FAE-B822-F78B636E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B88-DAE6-45FA-AB49-A1E77850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491-6EBC-4F4E-A9E9-2927637D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DAE-78BF-450E-8D7E-DB8D6581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29D-36A4-4670-8CC0-F0918690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12B-B342-46B4-91F3-A595D89F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0E1-9C2E-4F55-991B-79F9142D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C89-3A6F-4970-B2B9-9EF43E71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1B52-B88F-47DC-94EA-BE064CF6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0F86-F73A-4E36-983F-379DF1515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1.wmf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1.wmf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48520" y="4114800"/>
            <a:ext cx="1279440" cy="1201680"/>
            <a:chOff x="6248520" y="4114800"/>
            <a:chExt cx="1279440" cy="1201680"/>
          </a:xfrm>
        </p:grpSpPr>
        <p:sp>
          <p:nvSpPr>
            <p:cNvPr id="42" name=""/>
            <p:cNvSpPr/>
            <p:nvPr/>
          </p:nvSpPr>
          <p:spPr>
            <a:xfrm>
              <a:off x="6248520" y="4114800"/>
              <a:ext cx="1279440" cy="12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48520" y="4114800"/>
              <a:ext cx="1279440" cy="11890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6470640" y="4770720"/>
              <a:ext cx="36612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6929280" y="4729320"/>
              <a:ext cx="4600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6518160" y="4203720"/>
              <a:ext cx="734760" cy="48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4695840" y="3147840"/>
            <a:ext cx="1279440" cy="1187640"/>
            <a:chOff x="4695840" y="3147840"/>
            <a:chExt cx="1279440" cy="1187640"/>
          </a:xfrm>
        </p:grpSpPr>
        <p:sp>
          <p:nvSpPr>
            <p:cNvPr id="48" name=""/>
            <p:cNvSpPr/>
            <p:nvPr/>
          </p:nvSpPr>
          <p:spPr>
            <a:xfrm>
              <a:off x="4695840" y="3147840"/>
              <a:ext cx="1279440" cy="118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5363280" y="3870000"/>
              <a:ext cx="380520" cy="36900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0" name=""/>
            <p:cNvSpPr/>
            <p:nvPr/>
          </p:nvSpPr>
          <p:spPr>
            <a:xfrm>
              <a:off x="4695840" y="3147840"/>
              <a:ext cx="1279440" cy="11876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4847760" y="3235680"/>
              <a:ext cx="376920" cy="43380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4859280" y="3797280"/>
              <a:ext cx="354600" cy="40680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5536080" y="3581640"/>
              <a:ext cx="343080" cy="37656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>
              <a:off x="5363280" y="3235680"/>
              <a:ext cx="343080" cy="37692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55" name="" descr=""/>
            <p:cNvPicPr/>
            <p:nvPr/>
          </p:nvPicPr>
          <p:blipFill>
            <a:blip r:embed="rId9"/>
            <a:stretch/>
          </p:blipFill>
          <p:spPr>
            <a:xfrm>
              <a:off x="5063400" y="3536280"/>
              <a:ext cx="368640" cy="42588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56" name=""/>
          <p:cNvGrpSpPr/>
          <p:nvPr/>
        </p:nvGrpSpPr>
        <p:grpSpPr>
          <a:xfrm>
            <a:off x="1523880" y="1616040"/>
            <a:ext cx="6096240" cy="5067360"/>
            <a:chOff x="1523880" y="1616040"/>
            <a:chExt cx="6096240" cy="5067360"/>
          </a:xfrm>
        </p:grpSpPr>
        <p:sp>
          <p:nvSpPr>
            <p:cNvPr id="57" name=""/>
            <p:cNvSpPr/>
            <p:nvPr/>
          </p:nvSpPr>
          <p:spPr>
            <a:xfrm>
              <a:off x="152388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812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200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9588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2012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28600" y="588312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200" y="5938920"/>
            <a:ext cx="120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22520" y="5942160"/>
            <a:ext cx="131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mary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46400" y="5940360"/>
            <a:ext cx="1311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ggregation, Integration, Processing, Mode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70280" y="5950080"/>
            <a:ext cx="131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alysis, Visualization, Repor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94520" y="5950080"/>
            <a:ext cx="131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18400" y="5950080"/>
            <a:ext cx="11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45720" y="76320"/>
            <a:ext cx="36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ft Data Value Chai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980480" y="2973600"/>
            <a:ext cx="249840" cy="781200"/>
            <a:chOff x="7980480" y="2973600"/>
            <a:chExt cx="249840" cy="781200"/>
          </a:xfrm>
        </p:grpSpPr>
        <p:sp>
          <p:nvSpPr>
            <p:cNvPr id="71" name=""/>
            <p:cNvSpPr/>
            <p:nvPr/>
          </p:nvSpPr>
          <p:spPr>
            <a:xfrm>
              <a:off x="8183160" y="314856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80480" y="314856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28360" y="312840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53560" y="297360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8434440" y="2627640"/>
            <a:ext cx="249840" cy="781200"/>
            <a:chOff x="8434440" y="2627640"/>
            <a:chExt cx="249840" cy="781200"/>
          </a:xfrm>
        </p:grpSpPr>
        <p:sp>
          <p:nvSpPr>
            <p:cNvPr id="76" name=""/>
            <p:cNvSpPr/>
            <p:nvPr/>
          </p:nvSpPr>
          <p:spPr>
            <a:xfrm>
              <a:off x="8637120" y="280260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434440" y="280260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482320" y="278244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507520" y="262764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8301240" y="3570480"/>
            <a:ext cx="249840" cy="781200"/>
            <a:chOff x="8301240" y="3570480"/>
            <a:chExt cx="249840" cy="781200"/>
          </a:xfrm>
        </p:grpSpPr>
        <p:sp>
          <p:nvSpPr>
            <p:cNvPr id="81" name=""/>
            <p:cNvSpPr/>
            <p:nvPr/>
          </p:nvSpPr>
          <p:spPr>
            <a:xfrm>
              <a:off x="8503920" y="374544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301240" y="374544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49120" y="372528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74320" y="357048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11280" y="1770120"/>
            <a:ext cx="249840" cy="781200"/>
            <a:chOff x="611280" y="1770120"/>
            <a:chExt cx="249840" cy="781200"/>
          </a:xfrm>
        </p:grpSpPr>
        <p:sp>
          <p:nvSpPr>
            <p:cNvPr id="86" name=""/>
            <p:cNvSpPr/>
            <p:nvPr/>
          </p:nvSpPr>
          <p:spPr>
            <a:xfrm>
              <a:off x="813960" y="194508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1280" y="194508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9160" y="192492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4360" y="177012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752480" y="338760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199692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75904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481500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4952880"/>
            <a:ext cx="457200" cy="45720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3505320"/>
            <a:ext cx="457200" cy="45720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02716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278928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1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279072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2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435456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3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733400" y="2079720"/>
            <a:ext cx="288720" cy="282600"/>
            <a:chOff x="1733400" y="2079720"/>
            <a:chExt cx="288720" cy="282600"/>
          </a:xfrm>
        </p:grpSpPr>
        <p:sp>
          <p:nvSpPr>
            <p:cNvPr id="101" name=""/>
            <p:cNvSpPr/>
            <p:nvPr/>
          </p:nvSpPr>
          <p:spPr>
            <a:xfrm>
              <a:off x="1733400" y="2121120"/>
              <a:ext cx="233280" cy="241200"/>
            </a:xfrm>
            <a:custGeom>
              <a:avLst/>
              <a:gdLst/>
              <a:ahLst/>
              <a:rect l="l" t="t" r="r" b="b"/>
              <a:pathLst>
                <a:path w="1134" h="1172">
                  <a:moveTo>
                    <a:pt x="1018" y="1172"/>
                  </a:moveTo>
                  <a:lnTo>
                    <a:pt x="1041" y="1170"/>
                  </a:lnTo>
                  <a:lnTo>
                    <a:pt x="1063" y="1162"/>
                  </a:lnTo>
                  <a:lnTo>
                    <a:pt x="1083" y="1149"/>
                  </a:lnTo>
                  <a:lnTo>
                    <a:pt x="1101" y="1133"/>
                  </a:lnTo>
                  <a:lnTo>
                    <a:pt x="1114" y="1113"/>
                  </a:lnTo>
                  <a:lnTo>
                    <a:pt x="1125" y="1090"/>
                  </a:lnTo>
                  <a:lnTo>
                    <a:pt x="1132" y="1065"/>
                  </a:lnTo>
                  <a:lnTo>
                    <a:pt x="1134" y="1037"/>
                  </a:lnTo>
                  <a:lnTo>
                    <a:pt x="1134" y="136"/>
                  </a:lnTo>
                  <a:lnTo>
                    <a:pt x="1132" y="108"/>
                  </a:lnTo>
                  <a:lnTo>
                    <a:pt x="1125" y="83"/>
                  </a:lnTo>
                  <a:lnTo>
                    <a:pt x="1114" y="60"/>
                  </a:lnTo>
                  <a:lnTo>
                    <a:pt x="1101" y="40"/>
                  </a:lnTo>
                  <a:lnTo>
                    <a:pt x="1083" y="23"/>
                  </a:lnTo>
                  <a:lnTo>
                    <a:pt x="1063" y="10"/>
                  </a:lnTo>
                  <a:lnTo>
                    <a:pt x="1041" y="2"/>
                  </a:lnTo>
                  <a:lnTo>
                    <a:pt x="1018" y="0"/>
                  </a:lnTo>
                  <a:lnTo>
                    <a:pt x="116" y="0"/>
                  </a:lnTo>
                  <a:lnTo>
                    <a:pt x="93" y="2"/>
                  </a:lnTo>
                  <a:lnTo>
                    <a:pt x="71" y="10"/>
                  </a:lnTo>
                  <a:lnTo>
                    <a:pt x="51" y="23"/>
                  </a:lnTo>
                  <a:lnTo>
                    <a:pt x="35" y="40"/>
                  </a:lnTo>
                  <a:lnTo>
                    <a:pt x="20" y="60"/>
                  </a:lnTo>
                  <a:lnTo>
                    <a:pt x="9" y="83"/>
                  </a:lnTo>
                  <a:lnTo>
                    <a:pt x="2" y="108"/>
                  </a:lnTo>
                  <a:lnTo>
                    <a:pt x="0" y="136"/>
                  </a:lnTo>
                  <a:lnTo>
                    <a:pt x="0" y="1037"/>
                  </a:lnTo>
                  <a:lnTo>
                    <a:pt x="2" y="1065"/>
                  </a:lnTo>
                  <a:lnTo>
                    <a:pt x="9" y="1090"/>
                  </a:lnTo>
                  <a:lnTo>
                    <a:pt x="20" y="1113"/>
                  </a:lnTo>
                  <a:lnTo>
                    <a:pt x="35" y="1133"/>
                  </a:lnTo>
                  <a:lnTo>
                    <a:pt x="51" y="1149"/>
                  </a:lnTo>
                  <a:lnTo>
                    <a:pt x="71" y="1162"/>
                  </a:lnTo>
                  <a:lnTo>
                    <a:pt x="93" y="1170"/>
                  </a:lnTo>
                  <a:lnTo>
                    <a:pt x="116" y="1172"/>
                  </a:lnTo>
                  <a:lnTo>
                    <a:pt x="1018" y="1172"/>
                  </a:lnTo>
                  <a:close/>
                </a:path>
              </a:pathLst>
            </a:custGeom>
            <a:solidFill>
              <a:srgbClr val="93b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76240" y="2079720"/>
              <a:ext cx="245880" cy="193680"/>
            </a:xfrm>
            <a:custGeom>
              <a:avLst/>
              <a:gdLst/>
              <a:ahLst/>
              <a:rect l="l" t="t" r="r" b="b"/>
              <a:pathLst>
                <a:path w="724" h="572">
                  <a:moveTo>
                    <a:pt x="197" y="572"/>
                  </a:moveTo>
                  <a:lnTo>
                    <a:pt x="724" y="46"/>
                  </a:lnTo>
                  <a:lnTo>
                    <a:pt x="717" y="39"/>
                  </a:lnTo>
                  <a:lnTo>
                    <a:pt x="710" y="32"/>
                  </a:lnTo>
                  <a:lnTo>
                    <a:pt x="703" y="25"/>
                  </a:lnTo>
                  <a:lnTo>
                    <a:pt x="697" y="19"/>
                  </a:lnTo>
                  <a:lnTo>
                    <a:pt x="691" y="13"/>
                  </a:lnTo>
                  <a:lnTo>
                    <a:pt x="687" y="8"/>
                  </a:lnTo>
                  <a:lnTo>
                    <a:pt x="682" y="3"/>
                  </a:lnTo>
                  <a:lnTo>
                    <a:pt x="679" y="0"/>
                  </a:lnTo>
                  <a:lnTo>
                    <a:pt x="669" y="9"/>
                  </a:lnTo>
                  <a:lnTo>
                    <a:pt x="652" y="26"/>
                  </a:lnTo>
                  <a:lnTo>
                    <a:pt x="626" y="53"/>
                  </a:lnTo>
                  <a:lnTo>
                    <a:pt x="594" y="84"/>
                  </a:lnTo>
                  <a:lnTo>
                    <a:pt x="558" y="121"/>
                  </a:lnTo>
                  <a:lnTo>
                    <a:pt x="516" y="162"/>
                  </a:lnTo>
                  <a:lnTo>
                    <a:pt x="473" y="205"/>
                  </a:lnTo>
                  <a:lnTo>
                    <a:pt x="430" y="249"/>
                  </a:lnTo>
                  <a:lnTo>
                    <a:pt x="386" y="292"/>
                  </a:lnTo>
                  <a:lnTo>
                    <a:pt x="343" y="335"/>
                  </a:lnTo>
                  <a:lnTo>
                    <a:pt x="304" y="374"/>
                  </a:lnTo>
                  <a:lnTo>
                    <a:pt x="269" y="409"/>
                  </a:lnTo>
                  <a:lnTo>
                    <a:pt x="239" y="439"/>
                  </a:lnTo>
                  <a:lnTo>
                    <a:pt x="216" y="462"/>
                  </a:lnTo>
                  <a:lnTo>
                    <a:pt x="201" y="477"/>
                  </a:lnTo>
                  <a:lnTo>
                    <a:pt x="197" y="481"/>
                  </a:lnTo>
                  <a:lnTo>
                    <a:pt x="191" y="476"/>
                  </a:lnTo>
                  <a:lnTo>
                    <a:pt x="176" y="461"/>
                  </a:lnTo>
                  <a:lnTo>
                    <a:pt x="154" y="439"/>
                  </a:lnTo>
                  <a:lnTo>
                    <a:pt x="128" y="413"/>
                  </a:lnTo>
                  <a:lnTo>
                    <a:pt x="101" y="387"/>
                  </a:lnTo>
                  <a:lnTo>
                    <a:pt x="77" y="363"/>
                  </a:lnTo>
                  <a:lnTo>
                    <a:pt x="57" y="343"/>
                  </a:lnTo>
                  <a:lnTo>
                    <a:pt x="45" y="330"/>
                  </a:lnTo>
                  <a:lnTo>
                    <a:pt x="41" y="334"/>
                  </a:lnTo>
                  <a:lnTo>
                    <a:pt x="37" y="338"/>
                  </a:lnTo>
                  <a:lnTo>
                    <a:pt x="32" y="343"/>
                  </a:lnTo>
                  <a:lnTo>
                    <a:pt x="26" y="349"/>
                  </a:lnTo>
                  <a:lnTo>
                    <a:pt x="21" y="355"/>
                  </a:lnTo>
                  <a:lnTo>
                    <a:pt x="14" y="361"/>
                  </a:lnTo>
                  <a:lnTo>
                    <a:pt x="7" y="368"/>
                  </a:lnTo>
                  <a:lnTo>
                    <a:pt x="0" y="375"/>
                  </a:lnTo>
                  <a:lnTo>
                    <a:pt x="197" y="5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56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3" name=""/>
          <p:cNvCxnSpPr>
            <a:stCxn id="91" idx="4"/>
            <a:endCxn id="96" idx="1"/>
          </p:cNvCxnSpPr>
          <p:nvPr/>
        </p:nvCxnSpPr>
        <p:spPr>
          <a:xfrm flipV="1">
            <a:off x="2514600" y="2224800"/>
            <a:ext cx="72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6" idx="5"/>
            <a:endCxn id="105" idx="2"/>
          </p:cNvCxnSpPr>
          <p:nvPr/>
        </p:nvCxnSpPr>
        <p:spPr>
          <a:xfrm flipV="1">
            <a:off x="3467160" y="2209680"/>
            <a:ext cx="343080" cy="1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608360" y="2498760"/>
            <a:ext cx="146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sis, Visualiz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16920" y="3657600"/>
            <a:ext cx="114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>
            <a:off x="4266720" y="2209320"/>
            <a:ext cx="1073520" cy="273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43" idx="3"/>
          </p:cNvCxnSpPr>
          <p:nvPr/>
        </p:nvCxnSpPr>
        <p:spPr>
          <a:xfrm>
            <a:off x="7527960" y="4709160"/>
            <a:ext cx="349920" cy="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/>
          <p:nvPr/>
        </p:nvCxnSpPr>
        <p:spPr>
          <a:xfrm>
            <a:off x="1066320" y="2225160"/>
            <a:ext cx="64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endCxn id="90" idx="2"/>
          </p:cNvCxnSpPr>
          <p:nvPr/>
        </p:nvCxnSpPr>
        <p:spPr>
          <a:xfrm>
            <a:off x="1266480" y="3615840"/>
            <a:ext cx="48636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0" idx="1"/>
            <a:endCxn id="96" idx="3"/>
          </p:cNvCxnSpPr>
          <p:nvPr/>
        </p:nvCxnSpPr>
        <p:spPr>
          <a:xfrm flipH="1" flipV="1" rot="5400000">
            <a:off x="2184120" y="2219040"/>
            <a:ext cx="965520" cy="137196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0" idx="4"/>
          </p:cNvCxnSpPr>
          <p:nvPr/>
        </p:nvCxnSpPr>
        <p:spPr>
          <a:xfrm>
            <a:off x="2209680" y="3616200"/>
            <a:ext cx="1131120" cy="658080"/>
          </a:xfrm>
          <a:prstGeom prst="bentConnector3">
            <a:avLst>
              <a:gd name="adj1" fmla="val 603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2" idx="4"/>
            <a:endCxn id="98" idx="1"/>
          </p:cNvCxnSpPr>
          <p:nvPr/>
        </p:nvCxnSpPr>
        <p:spPr>
          <a:xfrm>
            <a:off x="2819520" y="2987640"/>
            <a:ext cx="495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98" idx="5"/>
            <a:endCxn id="97" idx="1"/>
          </p:cNvCxnSpPr>
          <p:nvPr/>
        </p:nvCxnSpPr>
        <p:spPr>
          <a:xfrm flipV="1">
            <a:off x="3543480" y="2986920"/>
            <a:ext cx="38088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97" idx="3"/>
            <a:endCxn id="95" idx="1"/>
          </p:cNvCxnSpPr>
          <p:nvPr/>
        </p:nvCxnSpPr>
        <p:spPr>
          <a:xfrm>
            <a:off x="4038480" y="3184560"/>
            <a:ext cx="36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93" idx="1"/>
            <a:endCxn id="98" idx="3"/>
          </p:cNvCxnSpPr>
          <p:nvPr/>
        </p:nvCxnSpPr>
        <p:spPr>
          <a:xfrm flipH="1" flipV="1" rot="5400000">
            <a:off x="2042640" y="3429000"/>
            <a:ext cx="1629360" cy="11433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9" idx="3"/>
            <a:endCxn id="94" idx="1"/>
          </p:cNvCxnSpPr>
          <p:nvPr/>
        </p:nvCxnSpPr>
        <p:spPr>
          <a:xfrm>
            <a:off x="4038480" y="4749840"/>
            <a:ext cx="360" cy="20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4" idx="4"/>
            <a:endCxn id="95" idx="3"/>
          </p:cNvCxnSpPr>
          <p:nvPr/>
        </p:nvCxnSpPr>
        <p:spPr>
          <a:xfrm flipH="1" flipV="1">
            <a:off x="4038480" y="3962520"/>
            <a:ext cx="228960" cy="1219320"/>
          </a:xfrm>
          <a:prstGeom prst="bentConnector4">
            <a:avLst>
              <a:gd name="adj1" fmla="val -102204"/>
              <a:gd name="adj2" fmla="val 593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94" idx="3"/>
            <a:endCxn id="50" idx="2"/>
          </p:cNvCxnSpPr>
          <p:nvPr/>
        </p:nvCxnSpPr>
        <p:spPr>
          <a:xfrm flipH="1" flipV="1" rot="5400000">
            <a:off x="4149360" y="4224240"/>
            <a:ext cx="1074960" cy="1297440"/>
          </a:xfrm>
          <a:prstGeom prst="bentConnector3">
            <a:avLst>
              <a:gd name="adj1" fmla="val -217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95" idx="4"/>
            <a:endCxn id="50" idx="1"/>
          </p:cNvCxnSpPr>
          <p:nvPr/>
        </p:nvCxnSpPr>
        <p:spPr>
          <a:xfrm>
            <a:off x="4267080" y="3733920"/>
            <a:ext cx="429120" cy="7920"/>
          </a:xfrm>
          <a:prstGeom prst="bentConnector3">
            <a:avLst>
              <a:gd name="adj1" fmla="val 503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endCxn id="99" idx="1"/>
          </p:cNvCxnSpPr>
          <p:nvPr/>
        </p:nvCxnSpPr>
        <p:spPr>
          <a:xfrm flipV="1">
            <a:off x="3554280" y="4552200"/>
            <a:ext cx="3700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/>
          <p:nvPr/>
        </p:nvCxnSpPr>
        <p:spPr>
          <a:xfrm flipH="1" rot="16200000">
            <a:off x="3508200" y="2907360"/>
            <a:ext cx="1288080" cy="229320"/>
          </a:xfrm>
          <a:prstGeom prst="bentConnector4">
            <a:avLst>
              <a:gd name="adj1" fmla="val 17752"/>
              <a:gd name="adj2" fmla="val 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809880" y="1981080"/>
            <a:ext cx="457200" cy="45720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93" idx="4"/>
          </p:cNvCxnSpPr>
          <p:nvPr/>
        </p:nvCxnSpPr>
        <p:spPr>
          <a:xfrm flipV="1">
            <a:off x="2514600" y="4831560"/>
            <a:ext cx="825840" cy="212400"/>
          </a:xfrm>
          <a:prstGeom prst="bentConnector3">
            <a:avLst>
              <a:gd name="adj1" fmla="val 64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5" name="" descr=""/>
          <p:cNvPicPr/>
          <p:nvPr/>
        </p:nvPicPr>
        <p:blipFill>
          <a:blip r:embed="rId14"/>
          <a:stretch/>
        </p:blipFill>
        <p:spPr>
          <a:xfrm>
            <a:off x="181080" y="3197160"/>
            <a:ext cx="1143000" cy="882720"/>
          </a:xfrm>
          <a:prstGeom prst="rect">
            <a:avLst/>
          </a:prstGeom>
          <a:ln w="0">
            <a:noFill/>
          </a:ln>
        </p:spPr>
      </p:pic>
      <p:cxnSp>
        <p:nvCxnSpPr>
          <p:cNvPr id="126" name=""/>
          <p:cNvCxnSpPr>
            <a:endCxn id="93" idx="2"/>
          </p:cNvCxnSpPr>
          <p:nvPr/>
        </p:nvCxnSpPr>
        <p:spPr>
          <a:xfrm>
            <a:off x="842760" y="5043240"/>
            <a:ext cx="12150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28600" y="160020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>
            <a:off x="5981760" y="3504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/>
          <p:nvPr/>
        </p:nvCxnSpPr>
        <p:spPr>
          <a:xfrm>
            <a:off x="4343400" y="1828440"/>
            <a:ext cx="37346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0" name=""/>
          <p:cNvCxnSpPr>
            <a:stCxn id="50" idx="3"/>
            <a:endCxn id="43" idx="1"/>
          </p:cNvCxnSpPr>
          <p:nvPr/>
        </p:nvCxnSpPr>
        <p:spPr>
          <a:xfrm>
            <a:off x="5975280" y="3741480"/>
            <a:ext cx="273600" cy="968040"/>
          </a:xfrm>
          <a:prstGeom prst="bentConnector5">
            <a:avLst>
              <a:gd name="adj1" fmla="val 84453"/>
              <a:gd name="adj2" fmla="val -85230"/>
              <a:gd name="adj3" fmla="val -552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2357640" y="743040"/>
            <a:ext cx="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A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28200" y="743040"/>
            <a:ext cx="94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B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50760" y="743040"/>
            <a:ext cx="143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C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Visualization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6943680" y="-476280"/>
            <a:ext cx="228600" cy="3714840"/>
          </a:xfrm>
          <a:custGeom>
            <a:avLst/>
            <a:gdLst>
              <a:gd name="textAreaLeft" fmla="*/ 0 w 228600"/>
              <a:gd name="textAreaRight" fmla="*/ 82440 w 228600"/>
              <a:gd name="textAreaTop" fmla="*/ 0 h 3714840"/>
              <a:gd name="textAreaBottom" fmla="*/ 3715200 h 371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4733640" y="111384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478"/>
                </a:lnTo>
                <a:cubicBezTo>
                  <a:pt x="10800" y="10478"/>
                  <a:pt x="16200" y="10478"/>
                  <a:pt x="21600" y="10478"/>
                </a:cubicBezTo>
                <a:cubicBezTo>
                  <a:pt x="16200" y="10478"/>
                  <a:pt x="10800" y="10478"/>
                  <a:pt x="10800" y="10478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2676240" y="111384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3695400" y="69480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34120" y="743040"/>
            <a:ext cx="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Group A2</a:t>
            </a: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Access 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5"/>
          <a:stretch/>
        </p:blipFill>
        <p:spPr>
          <a:xfrm>
            <a:off x="228600" y="4191120"/>
            <a:ext cx="790560" cy="1523880"/>
          </a:xfrm>
          <a:prstGeom prst="rect">
            <a:avLst/>
          </a:prstGeom>
          <a:ln w="0">
            <a:noFill/>
          </a:ln>
        </p:spPr>
      </p:pic>
      <p:cxnSp>
        <p:nvCxnSpPr>
          <p:cNvPr id="140" name=""/>
          <p:cNvCxnSpPr/>
          <p:nvPr/>
        </p:nvCxnSpPr>
        <p:spPr>
          <a:xfrm>
            <a:off x="2285640" y="5714640"/>
            <a:ext cx="2896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124080" y="4343400"/>
            <a:ext cx="381240" cy="457200"/>
          </a:xfrm>
          <a:prstGeom prst="foldedCorner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6248520" y="4114800"/>
            <a:ext cx="1279440" cy="1201680"/>
            <a:chOff x="6248520" y="4114800"/>
            <a:chExt cx="1279440" cy="1201680"/>
          </a:xfrm>
        </p:grpSpPr>
        <p:sp>
          <p:nvSpPr>
            <p:cNvPr id="143" name=""/>
            <p:cNvSpPr/>
            <p:nvPr/>
          </p:nvSpPr>
          <p:spPr>
            <a:xfrm>
              <a:off x="6248520" y="4114800"/>
              <a:ext cx="1279440" cy="12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48520" y="4114800"/>
              <a:ext cx="1279440" cy="11890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6470640" y="4770720"/>
              <a:ext cx="36612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6929280" y="4729320"/>
              <a:ext cx="4600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6518160" y="4203720"/>
              <a:ext cx="734760" cy="48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4695840" y="3147840"/>
            <a:ext cx="1279440" cy="1187640"/>
            <a:chOff x="4695840" y="3147840"/>
            <a:chExt cx="1279440" cy="1187640"/>
          </a:xfrm>
        </p:grpSpPr>
        <p:sp>
          <p:nvSpPr>
            <p:cNvPr id="149" name=""/>
            <p:cNvSpPr/>
            <p:nvPr/>
          </p:nvSpPr>
          <p:spPr>
            <a:xfrm>
              <a:off x="4695840" y="3147840"/>
              <a:ext cx="1279440" cy="118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>
              <a:off x="5363280" y="3870000"/>
              <a:ext cx="380520" cy="36900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51" name=""/>
            <p:cNvSpPr/>
            <p:nvPr/>
          </p:nvSpPr>
          <p:spPr>
            <a:xfrm>
              <a:off x="4695840" y="3147840"/>
              <a:ext cx="1279440" cy="11876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4847760" y="3235680"/>
              <a:ext cx="376920" cy="43380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53" name="" descr=""/>
            <p:cNvPicPr/>
            <p:nvPr/>
          </p:nvPicPr>
          <p:blipFill>
            <a:blip r:embed="rId6"/>
            <a:stretch/>
          </p:blipFill>
          <p:spPr>
            <a:xfrm>
              <a:off x="4859280" y="3797280"/>
              <a:ext cx="354600" cy="40680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54" name="" descr=""/>
            <p:cNvPicPr/>
            <p:nvPr/>
          </p:nvPicPr>
          <p:blipFill>
            <a:blip r:embed="rId7"/>
            <a:stretch/>
          </p:blipFill>
          <p:spPr>
            <a:xfrm>
              <a:off x="5536080" y="3581640"/>
              <a:ext cx="343080" cy="37656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55" name="" descr=""/>
            <p:cNvPicPr/>
            <p:nvPr/>
          </p:nvPicPr>
          <p:blipFill>
            <a:blip r:embed="rId8"/>
            <a:stretch/>
          </p:blipFill>
          <p:spPr>
            <a:xfrm>
              <a:off x="5363280" y="3235680"/>
              <a:ext cx="343080" cy="37692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56" name="" descr=""/>
            <p:cNvPicPr/>
            <p:nvPr/>
          </p:nvPicPr>
          <p:blipFill>
            <a:blip r:embed="rId9"/>
            <a:stretch/>
          </p:blipFill>
          <p:spPr>
            <a:xfrm>
              <a:off x="5063400" y="3536280"/>
              <a:ext cx="368640" cy="425880"/>
            </a:xfrm>
            <a:prstGeom prst="rect">
              <a:avLst/>
            </a:prstGeom>
            <a:ln w="0">
              <a:noFill/>
            </a:ln>
            <a:effectLst>
              <a:outerShdw dist="45929" dir="7428877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157" name=""/>
          <p:cNvGrpSpPr/>
          <p:nvPr/>
        </p:nvGrpSpPr>
        <p:grpSpPr>
          <a:xfrm>
            <a:off x="1523880" y="1616040"/>
            <a:ext cx="6096240" cy="5067360"/>
            <a:chOff x="1523880" y="1616040"/>
            <a:chExt cx="6096240" cy="5067360"/>
          </a:xfrm>
        </p:grpSpPr>
        <p:sp>
          <p:nvSpPr>
            <p:cNvPr id="158" name=""/>
            <p:cNvSpPr/>
            <p:nvPr/>
          </p:nvSpPr>
          <p:spPr>
            <a:xfrm>
              <a:off x="152388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200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1616040"/>
              <a:ext cx="0" cy="50673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28600" y="588312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1200" y="5938920"/>
            <a:ext cx="120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22520" y="5942160"/>
            <a:ext cx="131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mary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6400" y="5940360"/>
            <a:ext cx="1311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ggregation, Integration, Processing, Mode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70280" y="5950080"/>
            <a:ext cx="131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alysis, Visualization, Repor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94520" y="5950080"/>
            <a:ext cx="131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18400" y="5950080"/>
            <a:ext cx="11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5720" y="76320"/>
            <a:ext cx="36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ft Data Value Chai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980480" y="2973600"/>
            <a:ext cx="249840" cy="781200"/>
            <a:chOff x="7980480" y="2973600"/>
            <a:chExt cx="249840" cy="781200"/>
          </a:xfrm>
        </p:grpSpPr>
        <p:sp>
          <p:nvSpPr>
            <p:cNvPr id="172" name=""/>
            <p:cNvSpPr/>
            <p:nvPr/>
          </p:nvSpPr>
          <p:spPr>
            <a:xfrm>
              <a:off x="8183160" y="314856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80480" y="314856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28360" y="312840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53560" y="297360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8434440" y="2627640"/>
            <a:ext cx="249840" cy="781200"/>
            <a:chOff x="8434440" y="2627640"/>
            <a:chExt cx="249840" cy="781200"/>
          </a:xfrm>
        </p:grpSpPr>
        <p:sp>
          <p:nvSpPr>
            <p:cNvPr id="177" name=""/>
            <p:cNvSpPr/>
            <p:nvPr/>
          </p:nvSpPr>
          <p:spPr>
            <a:xfrm>
              <a:off x="8637120" y="280260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34440" y="280260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82320" y="278244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07520" y="262764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8301240" y="3570480"/>
            <a:ext cx="249840" cy="781200"/>
            <a:chOff x="8301240" y="3570480"/>
            <a:chExt cx="249840" cy="781200"/>
          </a:xfrm>
        </p:grpSpPr>
        <p:sp>
          <p:nvSpPr>
            <p:cNvPr id="182" name=""/>
            <p:cNvSpPr/>
            <p:nvPr/>
          </p:nvSpPr>
          <p:spPr>
            <a:xfrm>
              <a:off x="8503920" y="374544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01240" y="374544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49120" y="372528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74320" y="357048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11280" y="1770120"/>
            <a:ext cx="249840" cy="781200"/>
            <a:chOff x="611280" y="1770120"/>
            <a:chExt cx="249840" cy="781200"/>
          </a:xfrm>
        </p:grpSpPr>
        <p:sp>
          <p:nvSpPr>
            <p:cNvPr id="187" name=""/>
            <p:cNvSpPr/>
            <p:nvPr/>
          </p:nvSpPr>
          <p:spPr>
            <a:xfrm>
              <a:off x="813960" y="1945080"/>
              <a:ext cx="4716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1280" y="1945080"/>
              <a:ext cx="47520" cy="253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9160" y="1924920"/>
              <a:ext cx="154800" cy="626400"/>
            </a:xfrm>
            <a:custGeom>
              <a:avLst/>
              <a:gdLst/>
              <a:ahLst/>
              <a:rect l="l" t="t" r="r" b="b"/>
              <a:pathLst>
                <a:path w="147" h="595">
                  <a:moveTo>
                    <a:pt x="147" y="300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595"/>
                  </a:lnTo>
                  <a:lnTo>
                    <a:pt x="62" y="595"/>
                  </a:lnTo>
                  <a:lnTo>
                    <a:pt x="62" y="307"/>
                  </a:lnTo>
                  <a:lnTo>
                    <a:pt x="85" y="307"/>
                  </a:lnTo>
                  <a:lnTo>
                    <a:pt x="85" y="595"/>
                  </a:lnTo>
                  <a:lnTo>
                    <a:pt x="147" y="595"/>
                  </a:lnTo>
                  <a:lnTo>
                    <a:pt x="147" y="300"/>
                  </a:lnTo>
                  <a:lnTo>
                    <a:pt x="147" y="30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4360" y="1770120"/>
              <a:ext cx="99000" cy="1346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752480" y="338760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199692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75904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4815000"/>
            <a:ext cx="45720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202716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78928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1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279072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2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4354560"/>
            <a:ext cx="457200" cy="395280"/>
          </a:xfrm>
          <a:prstGeom prst="triangle">
            <a:avLst>
              <a:gd name="adj" fmla="val 50000"/>
            </a:avLst>
          </a:prstGeom>
          <a:blipFill rotWithShape="0">
            <a:blip r:embed="rId13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733400" y="2079720"/>
            <a:ext cx="288720" cy="282600"/>
            <a:chOff x="1733400" y="2079720"/>
            <a:chExt cx="288720" cy="282600"/>
          </a:xfrm>
        </p:grpSpPr>
        <p:sp>
          <p:nvSpPr>
            <p:cNvPr id="200" name=""/>
            <p:cNvSpPr/>
            <p:nvPr/>
          </p:nvSpPr>
          <p:spPr>
            <a:xfrm>
              <a:off x="1733400" y="2121120"/>
              <a:ext cx="233280" cy="241200"/>
            </a:xfrm>
            <a:custGeom>
              <a:avLst/>
              <a:gdLst/>
              <a:ahLst/>
              <a:rect l="l" t="t" r="r" b="b"/>
              <a:pathLst>
                <a:path w="1134" h="1172">
                  <a:moveTo>
                    <a:pt x="1018" y="1172"/>
                  </a:moveTo>
                  <a:lnTo>
                    <a:pt x="1041" y="1170"/>
                  </a:lnTo>
                  <a:lnTo>
                    <a:pt x="1063" y="1162"/>
                  </a:lnTo>
                  <a:lnTo>
                    <a:pt x="1083" y="1149"/>
                  </a:lnTo>
                  <a:lnTo>
                    <a:pt x="1101" y="1133"/>
                  </a:lnTo>
                  <a:lnTo>
                    <a:pt x="1114" y="1113"/>
                  </a:lnTo>
                  <a:lnTo>
                    <a:pt x="1125" y="1090"/>
                  </a:lnTo>
                  <a:lnTo>
                    <a:pt x="1132" y="1065"/>
                  </a:lnTo>
                  <a:lnTo>
                    <a:pt x="1134" y="1037"/>
                  </a:lnTo>
                  <a:lnTo>
                    <a:pt x="1134" y="136"/>
                  </a:lnTo>
                  <a:lnTo>
                    <a:pt x="1132" y="108"/>
                  </a:lnTo>
                  <a:lnTo>
                    <a:pt x="1125" y="83"/>
                  </a:lnTo>
                  <a:lnTo>
                    <a:pt x="1114" y="60"/>
                  </a:lnTo>
                  <a:lnTo>
                    <a:pt x="1101" y="40"/>
                  </a:lnTo>
                  <a:lnTo>
                    <a:pt x="1083" y="23"/>
                  </a:lnTo>
                  <a:lnTo>
                    <a:pt x="1063" y="10"/>
                  </a:lnTo>
                  <a:lnTo>
                    <a:pt x="1041" y="2"/>
                  </a:lnTo>
                  <a:lnTo>
                    <a:pt x="1018" y="0"/>
                  </a:lnTo>
                  <a:lnTo>
                    <a:pt x="116" y="0"/>
                  </a:lnTo>
                  <a:lnTo>
                    <a:pt x="93" y="2"/>
                  </a:lnTo>
                  <a:lnTo>
                    <a:pt x="71" y="10"/>
                  </a:lnTo>
                  <a:lnTo>
                    <a:pt x="51" y="23"/>
                  </a:lnTo>
                  <a:lnTo>
                    <a:pt x="35" y="40"/>
                  </a:lnTo>
                  <a:lnTo>
                    <a:pt x="20" y="60"/>
                  </a:lnTo>
                  <a:lnTo>
                    <a:pt x="9" y="83"/>
                  </a:lnTo>
                  <a:lnTo>
                    <a:pt x="2" y="108"/>
                  </a:lnTo>
                  <a:lnTo>
                    <a:pt x="0" y="136"/>
                  </a:lnTo>
                  <a:lnTo>
                    <a:pt x="0" y="1037"/>
                  </a:lnTo>
                  <a:lnTo>
                    <a:pt x="2" y="1065"/>
                  </a:lnTo>
                  <a:lnTo>
                    <a:pt x="9" y="1090"/>
                  </a:lnTo>
                  <a:lnTo>
                    <a:pt x="20" y="1113"/>
                  </a:lnTo>
                  <a:lnTo>
                    <a:pt x="35" y="1133"/>
                  </a:lnTo>
                  <a:lnTo>
                    <a:pt x="51" y="1149"/>
                  </a:lnTo>
                  <a:lnTo>
                    <a:pt x="71" y="1162"/>
                  </a:lnTo>
                  <a:lnTo>
                    <a:pt x="93" y="1170"/>
                  </a:lnTo>
                  <a:lnTo>
                    <a:pt x="116" y="1172"/>
                  </a:lnTo>
                  <a:lnTo>
                    <a:pt x="1018" y="1172"/>
                  </a:lnTo>
                  <a:close/>
                </a:path>
              </a:pathLst>
            </a:custGeom>
            <a:solidFill>
              <a:srgbClr val="93b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76240" y="2079720"/>
              <a:ext cx="245880" cy="193680"/>
            </a:xfrm>
            <a:custGeom>
              <a:avLst/>
              <a:gdLst/>
              <a:ahLst/>
              <a:rect l="l" t="t" r="r" b="b"/>
              <a:pathLst>
                <a:path w="724" h="572">
                  <a:moveTo>
                    <a:pt x="197" y="572"/>
                  </a:moveTo>
                  <a:lnTo>
                    <a:pt x="724" y="46"/>
                  </a:lnTo>
                  <a:lnTo>
                    <a:pt x="717" y="39"/>
                  </a:lnTo>
                  <a:lnTo>
                    <a:pt x="710" y="32"/>
                  </a:lnTo>
                  <a:lnTo>
                    <a:pt x="703" y="25"/>
                  </a:lnTo>
                  <a:lnTo>
                    <a:pt x="697" y="19"/>
                  </a:lnTo>
                  <a:lnTo>
                    <a:pt x="691" y="13"/>
                  </a:lnTo>
                  <a:lnTo>
                    <a:pt x="687" y="8"/>
                  </a:lnTo>
                  <a:lnTo>
                    <a:pt x="682" y="3"/>
                  </a:lnTo>
                  <a:lnTo>
                    <a:pt x="679" y="0"/>
                  </a:lnTo>
                  <a:lnTo>
                    <a:pt x="669" y="9"/>
                  </a:lnTo>
                  <a:lnTo>
                    <a:pt x="652" y="26"/>
                  </a:lnTo>
                  <a:lnTo>
                    <a:pt x="626" y="53"/>
                  </a:lnTo>
                  <a:lnTo>
                    <a:pt x="594" y="84"/>
                  </a:lnTo>
                  <a:lnTo>
                    <a:pt x="558" y="121"/>
                  </a:lnTo>
                  <a:lnTo>
                    <a:pt x="516" y="162"/>
                  </a:lnTo>
                  <a:lnTo>
                    <a:pt x="473" y="205"/>
                  </a:lnTo>
                  <a:lnTo>
                    <a:pt x="430" y="249"/>
                  </a:lnTo>
                  <a:lnTo>
                    <a:pt x="386" y="292"/>
                  </a:lnTo>
                  <a:lnTo>
                    <a:pt x="343" y="335"/>
                  </a:lnTo>
                  <a:lnTo>
                    <a:pt x="304" y="374"/>
                  </a:lnTo>
                  <a:lnTo>
                    <a:pt x="269" y="409"/>
                  </a:lnTo>
                  <a:lnTo>
                    <a:pt x="239" y="439"/>
                  </a:lnTo>
                  <a:lnTo>
                    <a:pt x="216" y="462"/>
                  </a:lnTo>
                  <a:lnTo>
                    <a:pt x="201" y="477"/>
                  </a:lnTo>
                  <a:lnTo>
                    <a:pt x="197" y="481"/>
                  </a:lnTo>
                  <a:lnTo>
                    <a:pt x="191" y="476"/>
                  </a:lnTo>
                  <a:lnTo>
                    <a:pt x="176" y="461"/>
                  </a:lnTo>
                  <a:lnTo>
                    <a:pt x="154" y="439"/>
                  </a:lnTo>
                  <a:lnTo>
                    <a:pt x="128" y="413"/>
                  </a:lnTo>
                  <a:lnTo>
                    <a:pt x="101" y="387"/>
                  </a:lnTo>
                  <a:lnTo>
                    <a:pt x="77" y="363"/>
                  </a:lnTo>
                  <a:lnTo>
                    <a:pt x="57" y="343"/>
                  </a:lnTo>
                  <a:lnTo>
                    <a:pt x="45" y="330"/>
                  </a:lnTo>
                  <a:lnTo>
                    <a:pt x="41" y="334"/>
                  </a:lnTo>
                  <a:lnTo>
                    <a:pt x="37" y="338"/>
                  </a:lnTo>
                  <a:lnTo>
                    <a:pt x="32" y="343"/>
                  </a:lnTo>
                  <a:lnTo>
                    <a:pt x="26" y="349"/>
                  </a:lnTo>
                  <a:lnTo>
                    <a:pt x="21" y="355"/>
                  </a:lnTo>
                  <a:lnTo>
                    <a:pt x="14" y="361"/>
                  </a:lnTo>
                  <a:lnTo>
                    <a:pt x="7" y="368"/>
                  </a:lnTo>
                  <a:lnTo>
                    <a:pt x="0" y="375"/>
                  </a:lnTo>
                  <a:lnTo>
                    <a:pt x="197" y="5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56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2" name=""/>
          <p:cNvCxnSpPr>
            <a:stCxn id="192" idx="4"/>
            <a:endCxn id="195" idx="1"/>
          </p:cNvCxnSpPr>
          <p:nvPr/>
        </p:nvCxnSpPr>
        <p:spPr>
          <a:xfrm>
            <a:off x="2514240" y="2225160"/>
            <a:ext cx="724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4574880" y="2362320"/>
            <a:ext cx="146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sis, Visualiz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16920" y="3657600"/>
            <a:ext cx="114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endCxn id="151" idx="0"/>
          </p:cNvCxnSpPr>
          <p:nvPr/>
        </p:nvCxnSpPr>
        <p:spPr>
          <a:xfrm>
            <a:off x="3505320" y="2209680"/>
            <a:ext cx="1830960" cy="938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44" idx="3"/>
          </p:cNvCxnSpPr>
          <p:nvPr/>
        </p:nvCxnSpPr>
        <p:spPr>
          <a:xfrm>
            <a:off x="7527960" y="4710240"/>
            <a:ext cx="349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/>
          <p:nvPr/>
        </p:nvCxnSpPr>
        <p:spPr>
          <a:xfrm>
            <a:off x="1066320" y="2225160"/>
            <a:ext cx="64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endCxn id="191" idx="2"/>
          </p:cNvCxnSpPr>
          <p:nvPr/>
        </p:nvCxnSpPr>
        <p:spPr>
          <a:xfrm>
            <a:off x="1266480" y="3615840"/>
            <a:ext cx="48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1" idx="1"/>
            <a:endCxn id="195" idx="3"/>
          </p:cNvCxnSpPr>
          <p:nvPr/>
        </p:nvCxnSpPr>
        <p:spPr>
          <a:xfrm flipH="1" flipV="1" rot="5400000">
            <a:off x="2184120" y="2218680"/>
            <a:ext cx="965880" cy="1372320"/>
          </a:xfrm>
          <a:prstGeom prst="bentConnector3">
            <a:avLst>
              <a:gd name="adj1" fmla="val 79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191" idx="4"/>
          </p:cNvCxnSpPr>
          <p:nvPr/>
        </p:nvCxnSpPr>
        <p:spPr>
          <a:xfrm>
            <a:off x="2209680" y="3616200"/>
            <a:ext cx="1131120" cy="658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3" idx="4"/>
            <a:endCxn id="197" idx="1"/>
          </p:cNvCxnSpPr>
          <p:nvPr/>
        </p:nvCxnSpPr>
        <p:spPr>
          <a:xfrm>
            <a:off x="2819520" y="2987280"/>
            <a:ext cx="496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197" idx="5"/>
            <a:endCxn id="196" idx="1"/>
          </p:cNvCxnSpPr>
          <p:nvPr/>
        </p:nvCxnSpPr>
        <p:spPr>
          <a:xfrm flipV="1">
            <a:off x="3543480" y="2986920"/>
            <a:ext cx="381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194" idx="1"/>
            <a:endCxn id="197" idx="3"/>
          </p:cNvCxnSpPr>
          <p:nvPr/>
        </p:nvCxnSpPr>
        <p:spPr>
          <a:xfrm flipH="1" flipV="1" rot="5400000">
            <a:off x="2042640" y="3428280"/>
            <a:ext cx="162972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198" idx="5"/>
          </p:cNvCxnSpPr>
          <p:nvPr/>
        </p:nvCxnSpPr>
        <p:spPr>
          <a:xfrm flipV="1">
            <a:off x="4152600" y="4343040"/>
            <a:ext cx="1183320" cy="210240"/>
          </a:xfrm>
          <a:prstGeom prst="bentConnector3">
            <a:avLst>
              <a:gd name="adj1" fmla="val 100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endCxn id="198" idx="1"/>
          </p:cNvCxnSpPr>
          <p:nvPr/>
        </p:nvCxnSpPr>
        <p:spPr>
          <a:xfrm>
            <a:off x="3554280" y="4552560"/>
            <a:ext cx="37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194" idx="4"/>
          </p:cNvCxnSpPr>
          <p:nvPr/>
        </p:nvCxnSpPr>
        <p:spPr>
          <a:xfrm flipV="1">
            <a:off x="2514240" y="4831560"/>
            <a:ext cx="826200" cy="21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17" name="" descr=""/>
          <p:cNvPicPr/>
          <p:nvPr/>
        </p:nvPicPr>
        <p:blipFill>
          <a:blip r:embed="rId14"/>
          <a:stretch/>
        </p:blipFill>
        <p:spPr>
          <a:xfrm>
            <a:off x="181080" y="3197160"/>
            <a:ext cx="1143000" cy="882720"/>
          </a:xfrm>
          <a:prstGeom prst="rect">
            <a:avLst/>
          </a:prstGeom>
          <a:ln w="0">
            <a:noFill/>
          </a:ln>
        </p:spPr>
      </p:pic>
      <p:cxnSp>
        <p:nvCxnSpPr>
          <p:cNvPr id="218" name=""/>
          <p:cNvCxnSpPr>
            <a:endCxn id="194" idx="2"/>
          </p:cNvCxnSpPr>
          <p:nvPr/>
        </p:nvCxnSpPr>
        <p:spPr>
          <a:xfrm>
            <a:off x="842760" y="504324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228600" y="160020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/>
          <p:nvPr/>
        </p:nvCxnSpPr>
        <p:spPr>
          <a:xfrm>
            <a:off x="5981760" y="3504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/>
          <p:nvPr/>
        </p:nvCxnSpPr>
        <p:spPr>
          <a:xfrm>
            <a:off x="4343400" y="1828440"/>
            <a:ext cx="37346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22" name=""/>
          <p:cNvCxnSpPr>
            <a:stCxn id="151" idx="3"/>
            <a:endCxn id="144" idx="1"/>
          </p:cNvCxnSpPr>
          <p:nvPr/>
        </p:nvCxnSpPr>
        <p:spPr>
          <a:xfrm>
            <a:off x="5974920" y="3741840"/>
            <a:ext cx="273960" cy="969120"/>
          </a:xfrm>
          <a:prstGeom prst="bentConnector3">
            <a:avLst>
              <a:gd name="adj1" fmla="val 56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2357640" y="743040"/>
            <a:ext cx="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A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28200" y="743040"/>
            <a:ext cx="94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B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50760" y="743040"/>
            <a:ext cx="143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C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Visualization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6943680" y="-476280"/>
            <a:ext cx="228600" cy="3714840"/>
          </a:xfrm>
          <a:custGeom>
            <a:avLst/>
            <a:gdLst>
              <a:gd name="textAreaLeft" fmla="*/ 0 w 228600"/>
              <a:gd name="textAreaRight" fmla="*/ 82440 w 228600"/>
              <a:gd name="textAreaTop" fmla="*/ 0 h 3714840"/>
              <a:gd name="textAreaBottom" fmla="*/ 3715200 h 371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4733640" y="111384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478"/>
                </a:lnTo>
                <a:cubicBezTo>
                  <a:pt x="10800" y="10478"/>
                  <a:pt x="16200" y="10478"/>
                  <a:pt x="21600" y="10478"/>
                </a:cubicBezTo>
                <a:cubicBezTo>
                  <a:pt x="16200" y="10478"/>
                  <a:pt x="10800" y="10478"/>
                  <a:pt x="10800" y="10478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2676240" y="111384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3695400" y="69480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0880" y="743040"/>
            <a:ext cx="83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Group A2</a:t>
            </a: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Access ?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5"/>
          <a:stretch/>
        </p:blipFill>
        <p:spPr>
          <a:xfrm>
            <a:off x="228600" y="4191120"/>
            <a:ext cx="790560" cy="1523880"/>
          </a:xfrm>
          <a:prstGeom prst="rect">
            <a:avLst/>
          </a:prstGeom>
          <a:ln w="0">
            <a:noFill/>
          </a:ln>
        </p:spPr>
      </p:pic>
      <p:cxnSp>
        <p:nvCxnSpPr>
          <p:cNvPr id="232" name=""/>
          <p:cNvCxnSpPr/>
          <p:nvPr/>
        </p:nvCxnSpPr>
        <p:spPr>
          <a:xfrm>
            <a:off x="2285640" y="5714640"/>
            <a:ext cx="2896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124080" y="4343400"/>
            <a:ext cx="381240" cy="457200"/>
          </a:xfrm>
          <a:prstGeom prst="foldedCorner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196" idx="5"/>
            <a:endCxn id="151" idx="0"/>
          </p:cNvCxnSpPr>
          <p:nvPr/>
        </p:nvCxnSpPr>
        <p:spPr>
          <a:xfrm>
            <a:off x="4152600" y="2987280"/>
            <a:ext cx="1183320" cy="160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04:46:24Z</dcterms:created>
  <dc:creator>Louis Sweeny</dc:creator>
  <dc:description/>
  <dc:language>en-US</dc:language>
  <cp:lastModifiedBy>Administrator</cp:lastModifiedBy>
  <dcterms:modified xsi:type="dcterms:W3CDTF">2008-02-05T15:51:55Z</dcterms:modified>
  <cp:revision>43</cp:revision>
  <dc:subject/>
  <dc:title>Slide 1</dc:title>
</cp:coreProperties>
</file>